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0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8.jpeg" ContentType="image/jpeg"/>
  <Override PartName="/ppt/media/image32.png" ContentType="image/png"/>
  <Override PartName="/ppt/media/image2.png" ContentType="image/png"/>
  <Override PartName="/ppt/media/image6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978-1FAC-442A-9189-E5313A49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090-651B-425D-B875-F3104A5DB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9E4-1428-4285-B418-402AF533B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C0E-C877-4B62-AE25-72F4DEEB7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25B-967E-48FC-9A4E-D23AA1F9F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A3E-4ED1-4092-8899-676252465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A1D0-FC83-43C8-8309-E4E65878E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591-F746-4A92-A6A2-01299D409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2A6-D7E4-43D5-8271-0582BFDE5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1B8-8DB9-40FF-AC24-B00A699DB5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AAA-5A7A-40F0-AAEE-45F761323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AECE-59A0-42B0-AE84-279A4ACD4E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A955-0FC3-4169-BE1E-E87993EEB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166-2EC8-4207-8D0B-A84E26E8A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45EF-E8D2-4126-B8EF-F29599F60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C6F-3C86-42A2-BD52-150F361CA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2DCE-0A6E-4222-9B8C-4C33E714D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DAE-F359-4CD9-A0B5-8821DE3A5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0456-31DE-40D6-B388-A1379C65D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3EA-7F66-4079-BA0B-7F632AF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E0D-DF70-43A6-8737-B2FBD9F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D44-388E-4EAE-BDA0-3471891D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235-4AF4-4458-815F-18808BD0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FC1-8BB2-493C-B4AE-58043C66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91EB-533D-421D-85A5-09BD28C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CB95-D302-40C1-8926-768D85E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77A1-E23E-4C61-9342-2A307A2D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34C-BCCF-44C8-A036-5A81C0C6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8A3D-3AEC-4801-A9D6-F996C5D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9A5F-D4B6-4656-985B-B40CE10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FDF-7374-428B-B8B7-0B02DEF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938-D63C-480B-A5FC-F8CDCE6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3F1-76BB-47BB-B18F-419A979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C15-C87C-456B-A0BE-86EF65C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72E-89ED-48E2-9E92-85F2FA69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ABE-130D-4100-B289-FD46D00A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1CD-4FE1-4991-815A-3586C8AD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6EF-56D7-4589-924A-CA3D037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4CA-C459-46FB-8993-F7398AF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709-20BC-420D-8108-ECC26CE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BCB-87F0-451E-BA59-69FCB32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4D4-6822-47B2-80B6-F742003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8A4-E1D8-423A-A3C2-052A683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2497-2272-4C8E-B4DC-EBD376CE3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708-06DB-4DA6-9049-D60130EC1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7/hm202_01_q07fs.htm" TargetMode="External"/><Relationship Id="rId2" Type="http://schemas.openxmlformats.org/officeDocument/2006/relationships/hyperlink" Target="http://my.hrw.com/sh/hm2/0030724872/student/ch02/sec01/qc07/hm202_01_q07fs.ht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8/hm202_01_q08f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9/hm202_01_q09fs.htm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12/hm202_01_q12fs.htm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2/qc06/hm202_02_q06fs.htm" TargetMode="External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N9euz9jzwc&amp;feature=related" TargetMode="External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16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arts of an at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hemistry terms from las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:  go ove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Look at the diagrams below…what can we information do we have?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that have a different number of neutrons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408480"/>
            <a:ext cx="3809880" cy="344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3421080"/>
            <a:ext cx="3657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wo or more elements (glucose, caffe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usual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ecome mo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energy level can hold 2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energy level can hold 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energy level can hold 1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nergy levels become full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become mo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my.hrw.com/sh/hm2/0030724872/student/ch02/sec01/qc07/hm202_01_q07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3"/>
          <a:srcRect l="64361" t="14222" r="6943" b="40112"/>
          <a:stretch/>
        </p:blipFill>
        <p:spPr>
          <a:xfrm>
            <a:off x="7543800" y="4946760"/>
            <a:ext cx="1600200" cy="1911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1905120"/>
            <a:ext cx="10670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1523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raw this…exampl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2200" y="5486400"/>
            <a:ext cx="96984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82720" cy="1247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1640" y="1447920"/>
            <a:ext cx="1217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 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es it need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unchar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 Fluorin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ow many needed to be unchar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438280" y="4959360"/>
            <a:ext cx="1981440" cy="189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5567400" y="0"/>
            <a:ext cx="357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bon = Organic Chem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bonds readily with other elements…why do you think this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/c carbon has on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- in it’s outer orbital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it rea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e- from 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5364000" y="312408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2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carbon bond so readily with other el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our plant lab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conclusion ADD:  Possible sources of error (mention that our plants didn’t gr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sot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atomic number tell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mass number tell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 with one ano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lev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08/hm202_01_q08f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1 electron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2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3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ip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17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charge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ver your tes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our chemistry review (matter, mass, at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or define #’s 1-8 using a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3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can we find methane?  How did we say it effects the clim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in your Bean Lab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books to answer the following a piece of separate sheet of paper: pg 37 #1-7.  Turn in when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the first page, front and back of the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Tomorr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5410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arbon Bonding Exampl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1600200"/>
            <a:ext cx="2361960" cy="2133720"/>
            <a:chOff x="0" y="1600200"/>
            <a:chExt cx="2361960" cy="2133720"/>
          </a:xfrm>
        </p:grpSpPr>
        <p:sp>
          <p:nvSpPr>
            <p:cNvPr id="177" name=""/>
            <p:cNvSpPr/>
            <p:nvPr/>
          </p:nvSpPr>
          <p:spPr>
            <a:xfrm>
              <a:off x="0" y="1600200"/>
              <a:ext cx="236196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2361960" cy="21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52680" y="2136600"/>
            <a:ext cx="5791320" cy="47214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04920" y="4038480"/>
            <a:ext cx="2209320" cy="2583360"/>
            <a:chOff x="304920" y="4038480"/>
            <a:chExt cx="2209320" cy="2583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04920" y="4038480"/>
              <a:ext cx="2209320" cy="20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92120" y="6192720"/>
              <a:ext cx="126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ethan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327720" y="0"/>
            <a:ext cx="2816280" cy="2058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276720" y="914400"/>
            <a:ext cx="2381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4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ctivation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hemical reactions, reactants an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in your worksheet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toms share electrons – helps both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ween two non-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09/hm202_01_q09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rcRect l="0" t="0" r="24531" b="27774"/>
          <a:stretch/>
        </p:blipFill>
        <p:spPr>
          <a:xfrm>
            <a:off x="4495680" y="3521160"/>
            <a:ext cx="4648320" cy="3336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4035600"/>
            <a:ext cx="44956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/ molecule with a charge ( + or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give / take electrons to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d ions attracting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ween a metal and a non-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12/hm202_01_q12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66880" y="3692520"/>
            <a:ext cx="6477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Na? 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Cl? 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ey bond so readi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/c the Na loses an e-, leaving a full outer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/c the Cl gains an e-, making it’s outer shell more 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effect their charg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becomes +, Cl become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1440" y="4191120"/>
            <a:ext cx="9142560" cy="2666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609480"/>
            <a:ext cx="6098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0"/>
            <a:ext cx="609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199880" cy="150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124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onic Bo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rcRect l="0" t="3109" r="0" b="1666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example of an ionic bo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74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hemical Rea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mical reaction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that changes one set of chemicals into another (by changing the chemical bonds that join atoms in compo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ss and energy are conser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ant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ents or compounds that enter into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ents or compounds produced by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4805280"/>
            <a:ext cx="4800600" cy="2052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4800600"/>
            <a:ext cx="190512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800600"/>
            <a:ext cx="289548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other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chemical reaction in your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2 + H2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2CO3 (carbonic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is reversed in lungs and you exhale C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E:\LESSON OVRVW batch 3\art\BIO10NAE_01_02_05_005_LRIM_0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1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isotopes and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iz:  Get out a sheet of p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n atom.  Label and indicate the charge on the following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n, neutron and elect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n isoto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atomic number tell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carbon bond so readily with other ato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n 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ctivation 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7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why an atom would “want” to lose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activation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enzyme activity and how they are eff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 (probab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vation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put need to begin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352680" y="2455920"/>
            <a:ext cx="5791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eak of each graph represents the energy needed for the reaction to go forw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ifference between the required energy and the energy of the reactants is the activation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ivation energy is involved in chemical reactions whether or not the overall reaction releases or abso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E:\LESSON OVRVW batch 3\art\BIO10NAE_01_02_05_005_LRIM_02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that lower activation energy of a reaction w/o being cha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2/qc06/hm202_02_q06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19920" y="4218120"/>
            <a:ext cx="3124080" cy="263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E:\LESSON OVRVW batch 3\art\BIO10NAE_01_02_05_005_LRIM_03.png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zyme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33720" y="934920"/>
            <a:ext cx="7010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bloodstream contains an enzyme called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  <a:ea typeface="Arial"/>
              </a:rPr>
              <a:t>carbonic anhydr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peeds up the reaction by a factor of 10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allows the reaction to takes place immediately and carbon dioxide is removed from the blood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7"/>
          <p:cNvPicPr/>
          <p:nvPr/>
        </p:nvPicPr>
        <p:blipFill>
          <a:blip r:embed="rId1"/>
          <a:stretch/>
        </p:blipFill>
        <p:spPr>
          <a:xfrm>
            <a:off x="2743200" y="3886200"/>
            <a:ext cx="3321000" cy="60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E:\LESSON OVRVW batch 3\art\BIO10NAE_01_02_05_005_LRIM_01.png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Factors effecting enzyme activity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up with a list of factors that could affect enzyme activ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enzym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oo man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800600" y="2801880"/>
            <a:ext cx="4267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lar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3045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olecule has an uneven distribution of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Wa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903840" cy="3962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3666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oesn’t share the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e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ly with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f the oxygen pulls the e- closer, the oxygen then becomes partially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nega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hydrogen will become partially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pos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 a water molecules pola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1143000"/>
            <a:ext cx="3812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438280"/>
            <a:ext cx="152424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3352680"/>
            <a:ext cx="152388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H bonding of water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87308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Composition of Matter - Ch 2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727280" y="4019040"/>
            <a:ext cx="622944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416880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1946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57800" y="3774960"/>
            <a:ext cx="2895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8 ATB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the hydrogen bonds that form in water with the partially positive hydrogen and partially negativ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hydrogen bonding and surface 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/ contrast cohesion and ad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089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19920" y="244080"/>
            <a:ext cx="2822400" cy="3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ydrogen bond is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rce of att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a hydrogen molecule with a partial positive charge and another atom or molecule with a partial or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ll negative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ttraction between the partially negative oxygen and partially positive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gives water some VERY IMPORTANT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H bonding of water"/>
          <p:cNvPicPr/>
          <p:nvPr/>
        </p:nvPicPr>
        <p:blipFill>
          <a:blip r:embed="rId1"/>
          <a:stretch/>
        </p:blipFill>
        <p:spPr>
          <a:xfrm>
            <a:off x="5638680" y="44179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1744560" cy="2209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0" y="1066680"/>
            <a:ext cx="31240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2209680"/>
            <a:ext cx="35053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76360" y="91800"/>
            <a:ext cx="5794200" cy="59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mportant Qualities of Water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face Ten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ydrogen bo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he water is able to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ists force of obj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water “sticks” to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more dense, water or m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aper clip?!?!  Why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clip floats b/c water is weakly bonded and those bonds are not bre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1066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1523880"/>
            <a:ext cx="32767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559640" y="4495680"/>
            <a:ext cx="1584360" cy="2362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20120" y="2057400"/>
            <a:ext cx="1193760" cy="1209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971800" y="4952880"/>
            <a:ext cx="2133720" cy="1730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181480" y="502920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4170240"/>
            <a:ext cx="2895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Mo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has the ability to absorb a relatively large amount of energy as heat and the ability to cool surfaces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ap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tes of Mat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states of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has the least energy? The m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qu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occup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volu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ake shap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475160" y="3352680"/>
            <a:ext cx="4668840" cy="3505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tes of Wa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st dense state of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this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ce was more dense lakes woul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e soli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hing could surv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s the ice freezes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un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drogen bonds begin to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abil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form 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gular struc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ecomes less “packed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4329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715000" y="4952880"/>
            <a:ext cx="152388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334120"/>
            <a:ext cx="152388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791320"/>
            <a:ext cx="30481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191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187960" cy="5639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ter Solubil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solubilit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ll something will dissolve in a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vi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Water is polar or nonpo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= p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llows it to dissolve other polar / ionic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Salt (NaC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of Na =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of Cl =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 partially positiv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ociates with the Na and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artially 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xygen associates with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gN9euz9jzwc&amp;feature=relat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2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226120" y="0"/>
            <a:ext cx="3917880" cy="4114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76720" y="4267080"/>
            <a:ext cx="15238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4800600"/>
            <a:ext cx="15242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5257800"/>
            <a:ext cx="1752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5638680"/>
            <a:ext cx="2971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6172200"/>
            <a:ext cx="609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hesion vs. Adhe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similar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capillary action or capillari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101000" y="1219320"/>
            <a:ext cx="2043000" cy="2666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400800" y="5468760"/>
            <a:ext cx="1847880" cy="1389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3657600" y="52671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rm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occupies space and ha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matter something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of the pull of gravity on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791400" y="4551480"/>
            <a:ext cx="2352600" cy="23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06668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E:\LESSON OVRVW batch 3\art\BIO10NAE_01_02_03_005_LRIM_06.png"/>
          <p:cNvPicPr/>
          <p:nvPr/>
        </p:nvPicPr>
        <p:blipFill>
          <a:blip r:embed="rId1"/>
          <a:stretch/>
        </p:blipFill>
        <p:spPr>
          <a:xfrm>
            <a:off x="3809880" y="914400"/>
            <a:ext cx="485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ished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9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urface ten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lory is awes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3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cohesion and adhesion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Surface Tensio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Tomorrow – you will be working on your review sheet for the te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– Monday or Tue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-4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soap affect surface ten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ver the review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questions for the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TOMRROW / RS D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Lab Due W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-5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review sheets?  Any last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n #51 on the scan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rite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cannot be broken into simpler kinds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particle of an element that retains the properties of tha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protons and 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up most of th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635800" y="3200400"/>
            <a:ext cx="350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ly charged particles in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ly charged particles that orbit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 particle 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4340" r="16201" b="5554"/>
          <a:stretch/>
        </p:blipFill>
        <p:spPr>
          <a:xfrm>
            <a:off x="5257800" y="3724200"/>
            <a:ext cx="3886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 and neutr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have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Carbon-12, Carbon-13 &amp; Carbon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isotopes of an element ar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era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i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majority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(~99%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SIX neutr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715000" y="0"/>
            <a:ext cx="167652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4191120" y="0"/>
            <a:ext cx="1419120" cy="155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962520"/>
            <a:ext cx="19051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495680"/>
            <a:ext cx="19051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791320"/>
            <a:ext cx="76212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80880"/>
            <a:ext cx="1447560" cy="763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05320" y="1219320"/>
            <a:ext cx="914400" cy="3808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6854760" y="4343400"/>
            <a:ext cx="2289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09:13Z</dcterms:created>
  <dc:creator>SASD</dc:creator>
  <dc:description/>
  <dc:language>en-US</dc:language>
  <cp:lastModifiedBy>SASD</cp:lastModifiedBy>
  <dcterms:modified xsi:type="dcterms:W3CDTF">2010-10-04T16:00:40Z</dcterms:modified>
  <cp:revision>30</cp:revision>
  <dc:subject/>
  <dc:title>Composition of Matter - Ch 2</dc:title>
</cp:coreProperties>
</file>